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media/image1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5EE6-4A02-4AA0-A439-8553DC35C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4B49-5BC5-4149-991E-FCB9664D8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26DD-FFF6-41AD-96A6-E20A2D197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9F60-CF61-4F33-802E-E5ABD444E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79A5-F90F-4207-9FB2-98167DF1A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3853-7F9E-45D0-A3F6-8EAE02EF9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270B-D782-46C3-90BA-D21C7F701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BB6B-01C0-4E21-93AE-23BAD5215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548B-774C-4A30-AAC3-CAB078191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4BA8-0DBF-4CB3-946D-7D70F746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467D-CB67-41AE-87FB-10EFA963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4527-2B6F-44B6-99CE-9A0C0F27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0A811-0D32-4392-9FB7-D555CA2F6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hyperlink" Target="http://acad.fcps.org/accomm/overview.htm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rial"/>
              </a:rPr>
              <a:t>Accommodating Assignments</a:t>
            </a:r>
            <a:br>
              <a:rPr sz="6000"/>
            </a:br>
            <a:br>
              <a:rPr sz="1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geting Instruction to Mee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eds of All Lear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429000" y="3809880"/>
            <a:ext cx="2263680" cy="243864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ksheet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038120" y="16765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ways provide clear, concise written &amp; verbal dire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examples with the directions when pos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the learner how to do the work with the example, even if you already taught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re are more than one set of directions on a worksheet page, be sure to </a:t>
            </a: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highlight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irections in some way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ld,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alics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underli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270180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rksheet Examples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y content are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743200" y="2057400"/>
            <a:ext cx="3809880" cy="3809880"/>
          </a:xfrm>
          <a:prstGeom prst="rect">
            <a:avLst/>
          </a:prstGeom>
          <a:ln w="4428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Note Tak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 note taking/pace your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a copy of student or teacher notes to be give automatically to those who need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a partially completed outline of notes or brief fill in the blank no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a chart or graphic organizer to be filled in during the note-tak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interactive noteboo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students time to correct notes, talk about notes, and reflect.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or examples, write 3 key ideas from notes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238880" y="609480"/>
            <a:ext cx="17240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Study Guides &amp; Tes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the Assessment sections of your brochure (parts 3&amp;4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the question on the back panel:  “What different ways do you or will you accommodate assessments, study guides, and assessment formats in your classro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packet, read through the sample study guides and tests.  Discuss which are well-adapted and what needs to be 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ow you try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858000" y="4724280"/>
            <a:ext cx="1881360" cy="1762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908000" y="1676520"/>
            <a:ext cx="5329440" cy="211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acad.fcps.org/accomm/overview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CPS Practical Implementation of Accommodations Si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ick tour and explanation of assig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the “Experience Firsthand” activities linked to misUnderstood Minds  (link on our wiki—under session 8) and complete the reflection to turn in when we meet again on 5/9/201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the Practical Implementation of Accommodations Tutorial, including the final reflection.  Print this page to turn in on 5/9/201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e work on 3 credit assignme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Warm-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 Read the le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st a student (or students) you have h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past or currently have that came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d as you read the let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 Turn to a partner and sha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accommodations do you currently make fo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udents to improve their learning in your content are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172200" y="457200"/>
            <a:ext cx="269568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ession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295280"/>
            <a:ext cx="845820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will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Understand how the student with special needs lea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Experience practical application of accommodations that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essen learning 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 Validate and add to your current tool box of accommod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support students wi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ing learning styles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ruction and assess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 Apply accommoda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class assig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257800" y="3809880"/>
            <a:ext cx="367668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ccommodations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1521000"/>
            <a:ext cx="8229600" cy="41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e intended to reduce or mediate the effects of the student’s disability; they are not intended to reduce the learning expect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accommodations must occur during instruction, as well as assessme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    …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rom the Maryland Statewide Individualized Education Program (IEP) Process Guide, MSDE Special Education/Early Intervention Sevices, May 1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imul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1521000"/>
            <a:ext cx="8229600" cy="16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114800" y="1523880"/>
            <a:ext cx="33242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Process Gu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1521000"/>
            <a:ext cx="8229600" cy="24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ocess gui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way to promote independence in any stud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has difficulty with attention or multiple ste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ee the sample process guide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ching students with speci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s students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029200" y="2590920"/>
            <a:ext cx="3184560" cy="35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apting Across the Curriculum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roch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895480" y="1981080"/>
            <a:ext cx="320040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Worksheet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can I adapt them to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needs of my learne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828800" y="2743200"/>
            <a:ext cx="556272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Layout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ve ample white sp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y Worksheets = Confused 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question per i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ep items per concept to a minimum.  Shortening the items expected can benefit your learn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k worksheets into sections using text boxes or li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721400" y="1523880"/>
            <a:ext cx="377496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5T13:12:47Z</dcterms:created>
  <dc:creator>fcps</dc:creator>
  <dc:description/>
  <dc:language>en-US</dc:language>
  <cp:lastModifiedBy>fcps</cp:lastModifiedBy>
  <dcterms:modified xsi:type="dcterms:W3CDTF">2011-04-11T16:11:54Z</dcterms:modified>
  <cp:revision>10</cp:revision>
  <dc:subject/>
  <dc:title>Slide 1</dc:title>
</cp:coreProperties>
</file>